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DDFA-1ED7-49F9-B38E-99A15859CB8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ässä tutkija on tietokirjansa kanssa tarjoamassa tietoa päätöksenteon tueksi (information push) – sisällä on päättäjä, jolla on tiedon kysyntäimu (information need p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777F-7B2C-4975-B64B-5959ED11E39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ttp://fi.opasnet.org/fi/Luettelo_Opasnetiss%C3%A4_toteutettavista_hankke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993-8101-4B8F-9B03-DE487B0C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4B8-F719-414F-A6B2-72AA479C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AE5-75A6-4818-A643-729776E6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216-3B3D-464B-BB76-7AEDEBBB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CA0-D2CD-43F7-9970-B61B5BEB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5D0-1AA4-4355-96CE-3C955DDC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601-D55D-405F-A654-7BA2BDE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FEDB-BA22-451C-A5C8-17C77E73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865-1574-4952-834F-984B107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734-DC04-4E16-B396-4598FC40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736F-FD9B-4632-9743-B6B009DB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265-A5AC-45E9-8E0C-57CA839F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D25-3182-4572-9B3E-700542A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B56-D21C-4D5A-9D88-641B80D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0A6-EA52-44FE-A4D9-66FEA13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C9D7-A1D1-4AC4-BACB-0F9F8A6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FA0-960F-4F8C-A173-99E34D4D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B34F-3886-4D40-A392-3E724F1C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8FEE-3400-417D-8A5A-6DB3436E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CDE4-0D57-49CB-81CF-EA295BF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0DDC-B4B2-4F7C-BB8D-69A24976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BDF0-E5FA-4FDA-89E1-C855B9C8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5F2E-62C2-48F9-957C-D2137ED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E06-ACB3-4C8B-9851-CACA3FF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083A-8F08-4F28-AC6D-EBA9884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1A79-BA92-48E1-85DD-A3E348F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4532-AE70-4993-ABA8-36BC6E77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1778-B3FD-40C9-A5EA-9BA8D17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1D5B-3A8C-47EB-B844-13FDB1E8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F344-FF02-41BB-BB49-03B7D226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481C-8087-4F66-8233-ECADDD02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B9F-5808-4A30-9A28-9C313A7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A08-8EA2-4977-973D-DAD63829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2BC-4D41-4CCB-9CA3-E26B3B1D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955-B1B8-4DDB-A3EE-E7C2077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BBF-1F65-439C-A90B-B614969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3F7-3E99-40DA-A788-3E98783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AA9B-EA80-413A-B55C-4E964C24EE0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949560"/>
            <a:ext cx="5330880" cy="200160"/>
            <a:chOff x="1906560" y="3949560"/>
            <a:chExt cx="5330880" cy="200160"/>
          </a:xfrm>
        </p:grpSpPr>
        <p:sp>
          <p:nvSpPr>
            <p:cNvPr id="49" name="Freeform 10"/>
            <p:cNvSpPr/>
            <p:nvPr/>
          </p:nvSpPr>
          <p:spPr>
            <a:xfrm>
              <a:off x="4043520" y="3949560"/>
              <a:ext cx="3193920" cy="20016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951360"/>
              <a:ext cx="2017800" cy="19692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632B-20F7-493D-AD37-5A205AA563CF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95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F47F-5878-4CFC-833E-21B01961077D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rn.fi/URN:NBN:fi-fe2014031821621" TargetMode="External"/><Relationship Id="rId2" Type="http://schemas.openxmlformats.org/officeDocument/2006/relationships/hyperlink" Target="http://fi.opasnet.org/fi/APTK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.opasnet.org/fi/Toiminnot:Luokat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Avoin päätöksentekokäytäntö toimintamallin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8360" y="5661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Jouni Tuomi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THL, Ympäristöterveyden osa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: pneumokokkirokote-hankinnan avoin valmistelu 2014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 ja THL määrittelevät päätöksen rajauksen sekä terveys-, kustannus- ja muut tavoitt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vataan yhteenveto taudista ja rokotteista sekä alustavat vaikuttavuuden laskentamall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julkinen keskustelu vaikuttavuuden kriteereistä, parametreista ja arvioinnista yleen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HL jäsentää keskustelun ja vetää tiedot yhteen APTK:n periaatteiden mukaise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men työskentelyn pohjalta kriteerit päätetään ja rokote kilpailute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D69-F0AB-4F10-BF12-666C4BADF7FA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pitäisi tehdä toisi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jat/asiantunti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ärkeä tieto julki heti eikä vasta kun artikkeli on julkais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i-asiantuntijoidenkin näkemyksiä on lähtökohtaisesti pidettävä mahdollisesti tosina ja siksi tärkein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täjä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odelliset tavoitteet jul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tkijat päästettävä miettimään päätöskysymyksi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dosryhmä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sallistuminen </a:t>
            </a: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yhteiseen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työskentelyy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nemmän yhteistä keskustel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avoitteeksi toisen ymmärtäminen ja auttami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Järjestelmällinen kulttuurin muuttami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0D6E-B8D3-4B89-A1CE-1027B91AAD53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sei tutkimustieto palvele päätöksentekoa niin kuin halutaa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179-FCBE-43E1-83B7-3BC9DF25FDC7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270080" y="1281240"/>
            <a:ext cx="58942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utkimuskysymy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n arviointi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2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jäsennetään tieteellistä tietoa ja arvoarvostelmia yhteiskunnallisen päätöksenteon tueksi siten, että avoin osallistuminen on mahdolli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n päätöksentekokäytäntö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2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rakennetaan jaettua ymmärrystä päätösprosessin eri vaiheissa siten, että tarvittavat toimenpiteet tulevat tehokkaasti toteutetuiksi ja vaikutukset todennetuik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(Jaettu ymmärrys = osapuolet ymmärtävät, mitä näkemyksiä asiasta on, mistä ollaan erimielisiä ja miksi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1B2-D1B9-4B7B-B54C-99B741410EB4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Huomio päätöksentekoon kokonaisuute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yhtä aikaa asiantuntijoiden, päättäjien ja sidosryhmien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oiminta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oko prosessi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päätösvalmistelusta toimenpiteisiin ja vaikutusten seuran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erityisesti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iedon rooli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, tiedon jalostamista ja tiedon virtaamista (tai sen esteitä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misto, Pohjola, Pohjola (2014): Avoin päätöksentekokäytäntö voisi parantaa tiedon hyödyntämistä. Yhteiskuntapolitiikka 79: 1: 66-75. 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urn.fi/URN:NBN:fi-fe2014031821621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fi.opasnet.org/fi/APT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DBD4-F595-4490-94C9-1DDD53522842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men päätöksentekokäytännön keskein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avoitteenasettelu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oteutukseen (vaikutusten arviointi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yön seurantaan ja ohjauk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stä tiedetään, että tulos on hyvä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omio tiedon yhteenvetämisen tait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kaluja tämän toteu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C76-FB19-44D1-9F15-C5B2A7E4AE68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: 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avoitteellisuus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ättäjät määrittelevät julkisesti päätöksen rajauksen ja tavoitteet, joihin toimintaa peilata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ohteellisuus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yön kohteena on verkkotyötilassa tehtävä vaikutusarviointi, johon tuotetaan suositukset ja perustel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Syysuhteiden kuvaus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arviointi tarkastelee syyketjua päätösvaihtoehdoista vaikutuksiin ja tavoiteltuihin arvoih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Uusiokäyttö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ki tieto jäsennetään mahdollisimman helposti käytettäväksi uusiin tarkoituksi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ritiikki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kea työn sisältöä saa kritisoida joka vaiheessa. Kritiikin murtamat osat hylätää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muu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: Kuka tahansa saa osallistua. Kaikki tieto jaetaan heti netiss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02AA-C641-4948-9CCE-DD069E655EF0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yötä varten verkkotyötila 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ttisivusto, jossa voi tehdä kaiken päätösvalmisteluty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79BC-0F50-45F9-9BC1-46D6C830320E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7000" y="1170000"/>
            <a:ext cx="82900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hankk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4" name="Rectangle 1">
            <a:hlinkClick r:id="rId1"/>
          </p:cNvPr>
          <p:cNvSpPr/>
          <p:nvPr/>
        </p:nvSpPr>
        <p:spPr>
          <a:xfrm>
            <a:off x="390672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5560" y="104940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94B-BD86-4E61-A582-D4BCFA139F95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88960" y="-11160"/>
            <a:ext cx="858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8:09:33Z</dcterms:created>
  <dc:creator>Kansanterveyslaitos</dc:creator>
  <dc:description/>
  <dc:language>en-US</dc:language>
  <cp:lastModifiedBy>Tuomisto Jouni</cp:lastModifiedBy>
  <dcterms:modified xsi:type="dcterms:W3CDTF">2014-06-05T05:22:58Z</dcterms:modified>
  <cp:revision>43</cp:revision>
  <dc:subject/>
  <dc:title>Dioksiinien terveyshaitat – erityistapaus kala</dc:title>
</cp:coreProperties>
</file>